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FE0-E10F-463E-AA96-FF56BF215D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7488-290A-4C01-AA10-4328078709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FBA-BD99-43B7-B02E-69C4A12AB0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8CC7-4B52-49C2-A3E4-D4818C6A98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CFD9-4DAD-484B-9B4E-B5AF965C8C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4722-8750-46E2-A272-4DDA94FAA6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7792-0282-40AD-9B8D-238A92E1A9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37F1-1314-4959-A091-669015569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8171-CAC5-4406-9204-F4F880DC22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4DC4-8CA5-4878-A507-CA6B438503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47E3-18DD-4F9D-9ADB-15934864ED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1519-5DB7-4DC0-BB1C-2678DB772F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7F3B-87EA-4BEA-B387-2850890DBE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9C10-1882-4FFF-8CF6-A361DE05DE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30A6-976E-4B78-97A0-C036EC912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814F-8F1F-4E60-AA36-836AE635E7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8A6-2D3F-4D82-9C6D-09318E1DD4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B696-C8AF-4953-9C48-28242E379C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7E01-5669-4483-8185-3592825A05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64FA-1F77-47AA-8936-A228ED17DA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2790-D052-4ACB-8DF7-E5BD5800CD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B2E-4BE7-4EA7-9EBB-BABC0AC48B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E20-49A9-43D0-B0AE-4B61DE8F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7CC-7A19-4F08-B617-ED775DE1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4E0-634F-47F5-97AC-3A832E85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571-0424-4316-B035-74C42468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CC0-F4FD-4208-B96C-020D87C7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BC7-DFF3-4DF2-A667-65A3405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E02-EAA6-4EE2-9C9C-4552135A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8C9-7816-4F7D-8077-EBD459C5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75F-6EE6-4702-9C52-27F9DDEB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B9B-1351-4A82-A152-7ABED0DF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1DD-B958-4682-811D-F5AA42E1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FAB-406F-45AF-8070-31F947BB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6DC9-559B-46AC-BDC4-81953EED9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митрий Горе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GOR.AKTIV\Documents\Презентации\РусКрипто2009\Токены\Альфа-банк\alfa.jpg"/>
          <p:cNvPicPr/>
          <p:nvPr/>
        </p:nvPicPr>
        <p:blipFill>
          <a:blip r:embed="rId1"/>
          <a:stretch/>
        </p:blipFill>
        <p:spPr>
          <a:xfrm>
            <a:off x="2071800" y="1785960"/>
            <a:ext cx="5329080" cy="310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GOR.AKTIV\Documents\Презентации\РусКрипто2009\logo-product-rutoken.png"/>
          <p:cNvPicPr/>
          <p:nvPr/>
        </p:nvPicPr>
        <p:blipFill>
          <a:blip r:embed="rId2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GOR.AKTIV\Documents\Презентации\РусКрипто2009\logo-product-rutoken.png"/>
          <p:cNvPicPr/>
          <p:nvPr/>
        </p:nvPicPr>
        <p:blipFill>
          <a:blip r:embed="rId1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GOR.AKTIV\Documents\Презентации\РусКрипто2009\Токены\БТА-Банк\bta_r&amp;g.jpg"/>
          <p:cNvPicPr/>
          <p:nvPr/>
        </p:nvPicPr>
        <p:blipFill>
          <a:blip r:embed="rId2"/>
          <a:stretch/>
        </p:blipFill>
        <p:spPr>
          <a:xfrm>
            <a:off x="2000160" y="1285920"/>
            <a:ext cx="52149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GOR.AKTIV\Documents\Презентации\РусКрипто2009\logo-product-rutoken.png"/>
          <p:cNvPicPr/>
          <p:nvPr/>
        </p:nvPicPr>
        <p:blipFill>
          <a:blip r:embed="rId1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GOR.AKTIV\Documents\Презентации\РусКрипто2009\Токены\Контур Экстерн\kontur.jpg"/>
          <p:cNvPicPr/>
          <p:nvPr/>
        </p:nvPicPr>
        <p:blipFill>
          <a:blip r:embed="rId2"/>
          <a:stretch/>
        </p:blipFill>
        <p:spPr>
          <a:xfrm>
            <a:off x="1928880" y="1785960"/>
            <a:ext cx="55720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GOR.AKTIV\Documents\Презентации\РусКрипто2009\logo-product-rutoken.png"/>
          <p:cNvPicPr/>
          <p:nvPr/>
        </p:nvPicPr>
        <p:blipFill>
          <a:blip r:embed="rId1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GOR.AKTIV\Documents\Презентации\РусКрипто2009\Токены\Электронная Москва\el_mos.jpg"/>
          <p:cNvPicPr/>
          <p:nvPr/>
        </p:nvPicPr>
        <p:blipFill>
          <a:blip r:embed="rId2"/>
          <a:stretch/>
        </p:blipFill>
        <p:spPr>
          <a:xfrm>
            <a:off x="1714680" y="1643040"/>
            <a:ext cx="6349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GOR.AKTIV\Documents\Презентации\РусКрипто2009\logo-product-rutoken.png"/>
          <p:cNvPicPr/>
          <p:nvPr/>
        </p:nvPicPr>
        <p:blipFill>
          <a:blip r:embed="rId1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GOR.AKTIV\Documents\Презентации\РусКрипто2009\Токены\Заказные Рутокен\mass_proj.jpg"/>
          <p:cNvPicPr/>
          <p:nvPr/>
        </p:nvPicPr>
        <p:blipFill>
          <a:blip r:embed="rId2"/>
          <a:stretch/>
        </p:blipFill>
        <p:spPr>
          <a:xfrm>
            <a:off x="2071800" y="1571760"/>
            <a:ext cx="52387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0" y="5226120"/>
            <a:ext cx="2286000" cy="1631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428840" y="3220920"/>
            <a:ext cx="55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онная отчет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00040" y="164304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иент-Бан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571680" y="478620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енный документообо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7000920" y="16430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928960" y="7858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нные торговые площа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3000240" y="2436840"/>
            <a:ext cx="557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ы комплексной безопас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357880" y="4214880"/>
            <a:ext cx="292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сональные дан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571680" y="407196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нные пропу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571680" y="10717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71680" y="26431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PS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7500960" y="4929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3500280" y="150012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а от копир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0" y="5226120"/>
            <a:ext cx="2286000" cy="1631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1785960" y="2714760"/>
            <a:ext cx="55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совые проек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0" y="5226120"/>
            <a:ext cx="2286000" cy="1631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642960" y="50004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ьзователи – обычные лю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GOR.AKTIV\Documents\Презентации\РусКрипто2009\h_06176f54f6b72f9fc23b6fb5c56bcbd2.jpg"/>
          <p:cNvPicPr/>
          <p:nvPr/>
        </p:nvPicPr>
        <p:blipFill>
          <a:blip r:embed="rId2"/>
          <a:stretch/>
        </p:blipFill>
        <p:spPr>
          <a:xfrm>
            <a:off x="1428840" y="1285920"/>
            <a:ext cx="63309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0" y="5226120"/>
            <a:ext cx="2286000" cy="1631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642960" y="50004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ьзователи – обычные лю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GOR.AKTIV\Documents\Презентации\РусКрипто2009\12406.jpg"/>
          <p:cNvPicPr/>
          <p:nvPr/>
        </p:nvPicPr>
        <p:blipFill>
          <a:blip r:embed="rId2"/>
          <a:stretch/>
        </p:blipFill>
        <p:spPr>
          <a:xfrm>
            <a:off x="1643040" y="1249200"/>
            <a:ext cx="5857920" cy="43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GOR.AKTIV\Documents\Презентации\РусКрипто2009\8358.jpg"/>
          <p:cNvPicPr/>
          <p:nvPr/>
        </p:nvPicPr>
        <p:blipFill>
          <a:blip r:embed="rId1"/>
          <a:stretch/>
        </p:blipFill>
        <p:spPr>
          <a:xfrm rot="15456600">
            <a:off x="1480680" y="1466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642960" y="50004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м проще – тем лучш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GOR.AKTIV\Documents\Презентации\РусКрипто2009\img-rutoken-001.jpg"/>
          <p:cNvPicPr/>
          <p:nvPr/>
        </p:nvPicPr>
        <p:blipFill>
          <a:blip r:embed="rId2"/>
          <a:stretch/>
        </p:blipFill>
        <p:spPr>
          <a:xfrm>
            <a:off x="0" y="5226120"/>
            <a:ext cx="2286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GOR.AKTIV\Documents\Презентации\РусКрипто2009\logo-company-aktiv.png"/>
          <p:cNvPicPr/>
          <p:nvPr/>
        </p:nvPicPr>
        <p:blipFill>
          <a:blip r:embed="rId1"/>
          <a:stretch/>
        </p:blipFill>
        <p:spPr>
          <a:xfrm>
            <a:off x="3071880" y="2643120"/>
            <a:ext cx="285732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642960" y="50004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йч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1000080" y="2000160"/>
            <a:ext cx="300204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GOR.AKTIV\Documents\Презентации\РусКрипто2009\13000000.jpg"/>
          <p:cNvPicPr/>
          <p:nvPr/>
        </p:nvPicPr>
        <p:blipFill>
          <a:blip r:embed="rId2"/>
          <a:stretch/>
        </p:blipFill>
        <p:spPr>
          <a:xfrm>
            <a:off x="4357800" y="1357200"/>
            <a:ext cx="4144680" cy="4145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3647160" y="2571840"/>
            <a:ext cx="59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6"/>
          <p:cNvSpPr/>
          <p:nvPr/>
        </p:nvSpPr>
        <p:spPr>
          <a:xfrm>
            <a:off x="642960" y="50004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ч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2786040" y="2214720"/>
            <a:ext cx="3002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6"/>
          <p:cNvSpPr/>
          <p:nvPr/>
        </p:nvSpPr>
        <p:spPr>
          <a:xfrm>
            <a:off x="642960" y="50004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1000080" y="2000160"/>
            <a:ext cx="300204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3647160" y="2571840"/>
            <a:ext cx="59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GOR.AKTIV\Documents\Презентации\РусКрипто2009\www(1).gif"/>
          <p:cNvPicPr/>
          <p:nvPr/>
        </p:nvPicPr>
        <p:blipFill>
          <a:blip r:embed="rId2"/>
          <a:stretch/>
        </p:blipFill>
        <p:spPr>
          <a:xfrm>
            <a:off x="4572000" y="1785960"/>
            <a:ext cx="32097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6"/>
          <p:cNvSpPr/>
          <p:nvPr/>
        </p:nvSpPr>
        <p:spPr>
          <a:xfrm>
            <a:off x="642960" y="50004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ругая ре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1000080" y="2000160"/>
            <a:ext cx="3002040" cy="2143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3647160" y="2571840"/>
            <a:ext cx="59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GOR.AKTIV\Documents\Презентации\РусКрипто2009\tnt_20080711114943_img.jpg"/>
          <p:cNvPicPr/>
          <p:nvPr/>
        </p:nvPicPr>
        <p:blipFill>
          <a:blip r:embed="rId2"/>
          <a:stretch/>
        </p:blipFill>
        <p:spPr>
          <a:xfrm>
            <a:off x="4643280" y="2286000"/>
            <a:ext cx="18957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: сделать токен совмещенный с флеш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0" y="5226120"/>
            <a:ext cx="2286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: Рутокен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0" y="5226120"/>
            <a:ext cx="2286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6"/>
          <p:cNvSpPr/>
          <p:nvPr/>
        </p:nvSpPr>
        <p:spPr>
          <a:xfrm>
            <a:off x="642960" y="500040"/>
            <a:ext cx="757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токен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sh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три устройства внутр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428760" y="2714760"/>
            <a:ext cx="3001680" cy="2143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2932920" y="3143160"/>
            <a:ext cx="59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GOR.AKTIV\Documents\Презентации\РусКрипто2009\tnt_20080711114943_img.jpg"/>
          <p:cNvPicPr/>
          <p:nvPr/>
        </p:nvPicPr>
        <p:blipFill>
          <a:blip r:embed="rId2"/>
          <a:stretch/>
        </p:blipFill>
        <p:spPr>
          <a:xfrm>
            <a:off x="6429240" y="2714760"/>
            <a:ext cx="189576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5933160" y="3143160"/>
            <a:ext cx="59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GOR.AKTIV\Documents\Презентации\РусКрипто2009\page.ergonomic.3.png"/>
          <p:cNvPicPr/>
          <p:nvPr/>
        </p:nvPicPr>
        <p:blipFill>
          <a:blip r:embed="rId3"/>
          <a:stretch/>
        </p:blipFill>
        <p:spPr>
          <a:xfrm>
            <a:off x="3714840" y="3071880"/>
            <a:ext cx="21430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2960" y="50004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токен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sh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самые новы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GOR.AKTIV\Documents\Презентации\РусКрипто2009\rut_flash02.jpg"/>
          <p:cNvPicPr/>
          <p:nvPr/>
        </p:nvPicPr>
        <p:blipFill>
          <a:blip r:embed="rId1"/>
          <a:stretch/>
        </p:blipFill>
        <p:spPr>
          <a:xfrm>
            <a:off x="1643040" y="1928880"/>
            <a:ext cx="58770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6"/>
          <p:cNvSpPr/>
          <p:nvPr/>
        </p:nvSpPr>
        <p:spPr>
          <a:xfrm>
            <a:off x="642960" y="50004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токен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sh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самые новы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GOR.AKTIV\Documents\Презентации\РусКрипто2009\rut_flash02.jpg"/>
          <p:cNvPicPr/>
          <p:nvPr/>
        </p:nvPicPr>
        <p:blipFill>
          <a:blip r:embed="rId1"/>
          <a:stretch/>
        </p:blipFill>
        <p:spPr>
          <a:xfrm>
            <a:off x="0" y="5000760"/>
            <a:ext cx="2498760" cy="1857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1285920" y="221472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никальные конструкторские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страя, надежная флеш-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иженное токопотребление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6"/>
          <p:cNvSpPr/>
          <p:nvPr/>
        </p:nvSpPr>
        <p:spPr>
          <a:xfrm>
            <a:off x="642960" y="50004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Flash-диск Рутокен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GOR.AKTIV\Documents\Презентации\РусКрипто2009\rut_flash02.jpg"/>
          <p:cNvPicPr/>
          <p:nvPr/>
        </p:nvPicPr>
        <p:blipFill>
          <a:blip r:embed="rId1"/>
          <a:stretch/>
        </p:blipFill>
        <p:spPr>
          <a:xfrm>
            <a:off x="0" y="5000760"/>
            <a:ext cx="2498760" cy="18572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1285920" y="2214720"/>
            <a:ext cx="71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м: 2 Гб или 4 Г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яя скорость записи: 5,8 Мбайт/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яя скорость чтения: 29,3 Мбайт/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989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"/>
          <p:cNvSpPr/>
          <p:nvPr/>
        </p:nvSpPr>
        <p:spPr>
          <a:xfrm>
            <a:off x="642960" y="50004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токен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ash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для массовых про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GOR.AKTIV\Documents\Презентации\РусКрипто2009\rut_flash02.jpg"/>
          <p:cNvPicPr/>
          <p:nvPr/>
        </p:nvPicPr>
        <p:blipFill>
          <a:blip r:embed="rId1"/>
          <a:stretch/>
        </p:blipFill>
        <p:spPr>
          <a:xfrm>
            <a:off x="0" y="5000760"/>
            <a:ext cx="2498760" cy="18572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1285920" y="22147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ая ц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енный, компактный корпус Руток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642960" y="50004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GOR.AKTIV\Documents\Презентации\РусКрипто2009\rut_flash02.jpg"/>
          <p:cNvPicPr/>
          <p:nvPr/>
        </p:nvPicPr>
        <p:blipFill>
          <a:blip r:embed="rId1"/>
          <a:stretch/>
        </p:blipFill>
        <p:spPr>
          <a:xfrm>
            <a:off x="0" y="5000760"/>
            <a:ext cx="2498760" cy="18572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1285920" y="2214720"/>
            <a:ext cx="714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– 499 шт. – 2100 ру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00-999 шт. – 1750 ру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крупных проектов – специальные усло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r@rutoken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 л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GOR.AKTIV\Documents\Презентации\Guardant\splash.logo.gs.png"/>
          <p:cNvPicPr/>
          <p:nvPr/>
        </p:nvPicPr>
        <p:blipFill>
          <a:blip r:embed="rId1"/>
          <a:stretch/>
        </p:blipFill>
        <p:spPr>
          <a:xfrm>
            <a:off x="1944720" y="2351160"/>
            <a:ext cx="505620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GOR.AKTIV\Documents\Презентации\РусКрипто2009\logo-product-rutoken.png"/>
          <p:cNvPicPr/>
          <p:nvPr/>
        </p:nvPicPr>
        <p:blipFill>
          <a:blip r:embed="rId1"/>
          <a:stretch/>
        </p:blipFill>
        <p:spPr>
          <a:xfrm>
            <a:off x="2714760" y="2786040"/>
            <a:ext cx="36684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600" y="-38880"/>
            <a:ext cx="27860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GOR.AKTIV\Documents\Презентации\РусКрипто2009\img-rutoken-001.jpg"/>
          <p:cNvPicPr/>
          <p:nvPr/>
        </p:nvPicPr>
        <p:blipFill>
          <a:blip r:embed="rId1"/>
          <a:stretch/>
        </p:blipFill>
        <p:spPr>
          <a:xfrm>
            <a:off x="1887480" y="1623960"/>
            <a:ext cx="5256360" cy="375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GOR.AKTIV\Documents\Презентации\РусКрипто2009\logo-product-rutoken.png"/>
          <p:cNvPicPr/>
          <p:nvPr/>
        </p:nvPicPr>
        <p:blipFill>
          <a:blip r:embed="rId2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7858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01 год, ста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GOR.AKTIV\Documents\Презентации\РусКрипто2009\logo-product-rutoken.png"/>
          <p:cNvPicPr/>
          <p:nvPr/>
        </p:nvPicPr>
        <p:blipFill>
          <a:blip r:embed="rId1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7858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05 – н.в , бурн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GOR.AKTIV\Documents\Презентации\РусКрипто2009\logo-product-rutoken.png"/>
          <p:cNvPicPr/>
          <p:nvPr/>
        </p:nvPicPr>
        <p:blipFill>
          <a:blip r:embed="rId1"/>
          <a:stretch/>
        </p:blipFill>
        <p:spPr>
          <a:xfrm>
            <a:off x="3571920" y="5857920"/>
            <a:ext cx="22575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50:24Z</dcterms:created>
  <dc:creator>Пользователь Windows</dc:creator>
  <dc:description/>
  <dc:language>en-US</dc:language>
  <cp:lastModifiedBy>Пользователь Windows</cp:lastModifiedBy>
  <dcterms:modified xsi:type="dcterms:W3CDTF">2009-04-03T10:19:21Z</dcterms:modified>
  <cp:revision>15</cp:revision>
  <dc:subject/>
  <dc:title>Дмитрий Горелов</dc:title>
</cp:coreProperties>
</file>